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F93-DF70-495E-A410-7EAAD32B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E6B-F3A3-479A-A4FC-E1477ECB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3F8-5AE0-479E-9CF1-1907D932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7B9-3E2B-4934-87EE-5C0644B4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B6C6-BE6D-4EE9-B27B-810E4589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B31-4CE0-4005-AD9C-17B4A302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92D5-971A-4F18-A1BC-B1C1D0BB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F902-6E86-48BE-8E18-07B8C00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9181-54D3-45BA-9151-A8C1C3AB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875A-1BEE-472A-9DC4-3F62A58B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0557-62AD-4C13-9224-D6C1E62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51B-E697-462E-8509-30879E0F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C6CF-4355-4BD8-80C0-8AFDF445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2710-E76C-4CE8-9F53-803A9E7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C47D-CA30-4ADF-80C4-B8FE3DC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2D43-CAF8-4118-B028-580ACF74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380B-47FF-4DAF-93F5-24518BFF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A63-A341-42EF-A91D-8D8B60F2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483-60DC-4696-96F0-DFB8B7A4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CD6-6D05-4A2C-B205-17616DF3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9B0-0A0A-451A-BAFC-693E540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9EB-AB5D-4977-B990-B955FB19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473-7861-455A-8D34-A16ABD8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E90-6CBB-4DC5-B4F3-A7E3995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7FD-1F29-4BC6-AF0A-348D228C2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2470-E83A-4279-ACF2-62360A0EB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!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 (rencontrer) un type bizarre dans la forê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rencont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____________ (être) très méchant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 (avoir) peu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arriver) chez ma grand-mè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arr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(être) un peu plus poilue que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crier)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ère-grand, ce que vous avez de grandes de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ri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 (avoir)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énerv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 elle __________ (déchirer) sa robe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échi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(voir) qu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v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être) un grand méchant lou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e P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 – sudde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à coup – all of a sud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moment où – just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s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(être) le type de la forê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 (partir) en courant à toutes jamb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pa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</a:t>
            </a:r>
            <a:r>
              <a:rPr b="1" lang="ja-JP" sz="4400" spc="-1" strike="noStrike">
                <a:solidFill>
                  <a:srgbClr val="ffffb7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jours – a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 – u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s les jours – all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vent –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temps en temps – from time to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chez-vous de votre partena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ez un tableau par person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gauche prend un feutre v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droite prend un feutre rou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vert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SSÉ COMPOS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roug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ARF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cidez si la phrase demande le passé composé (vert) ou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 (roug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le la personne avec cette couleur peut répond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, il ___________ (faire) très b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s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rd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 (décider)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 chez ma grand-mè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déci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vouloir) lui offrir un cad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ul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is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 (commencer) ma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ommenc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1:58:40Z</dcterms:modified>
  <cp:revision>76</cp:revision>
  <dc:subject/>
  <dc:title>Allez, viens! – Level 2</dc:title>
</cp:coreProperties>
</file>